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E478-5DA9-4A6F-9268-1E0B25E2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B793-C843-4C3E-A951-0ACE8F47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C57-485E-440D-B11A-6FFD972E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96CD-1466-4766-84BB-2D49298A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427-CA9F-437B-8335-0B70B18C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F5C0-D8DA-49D9-900C-4C4CAABC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40A-C8A5-4A7F-A7E1-0F02A0CE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695-89F0-4221-B924-275CFD5C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905-B863-43F4-AC12-BA573316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B6B-71F5-4B58-8290-9770A5D2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510-D72B-47ED-9299-CBC9E7B0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E3F-090E-47DD-9034-37A481C4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3BAE-5A74-4B0B-A9EA-7FC4EB22E1CE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08360" y="234936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Time frame for the new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51280" y="1413000"/>
            <a:ext cx="4527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SSN Workshop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Lisbon 11-12 June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60760" y="47973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b71"/>
                </a:solidFill>
                <a:latin typeface="Verdana"/>
              </a:rPr>
              <a:t>Lisbon, 12</a:t>
            </a:r>
            <a:r>
              <a:rPr b="1" lang="en-US" sz="1600" spc="-1" strike="noStrike" baseline="30000">
                <a:solidFill>
                  <a:srgbClr val="002b71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002b71"/>
                </a:solidFill>
                <a:latin typeface="Verdana"/>
              </a:rPr>
              <a:t>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ECA-FCB9-4EFC-9EEE-59A833638DD9}" type="slidenum">
              <a:t>1</a:t>
            </a:fld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197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c7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1916280"/>
            <a:ext cx="676908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is presentation introduces a proposal for a global time frame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aching an agre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he specifiction and development ph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he test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he production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 SSN (via MS application) to be able to forward PSC related information to THETIS the 01 Janvier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B17-D7B0-4766-9974-B71B8D60F92C}" type="slidenum">
              <a:t>2</a:t>
            </a:fld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00000" y="260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c7"/>
                </a:solidFill>
                <a:latin typeface="Verdana"/>
              </a:rPr>
              <a:t>Global Road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191628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1197000"/>
          <a:ext cx="8351640" cy="5256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97000"/>
                    <a:ext cx="83516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38D1-F12E-42C6-BE34-06AC18B10595}" type="slidenum">
              <a:t>3</a:t>
            </a:fld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55640" y="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c7"/>
                </a:solidFill>
                <a:latin typeface="Verdana"/>
              </a:rPr>
              <a:t>Time-Frame propos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c7"/>
                </a:solidFill>
                <a:latin typeface="Verdana"/>
              </a:rPr>
              <a:t>for PortPlus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191628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24000" y="1197000"/>
          <a:ext cx="8569080" cy="3816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97000"/>
                    <a:ext cx="856908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755640" y="4365720"/>
            <a:ext cx="74898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EMSA will inform MS as soon as the PortPlus implementation in SafeSeaNet will be effec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Mid 2010 a global planification of the commissiong tests should be establis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b71"/>
                </a:solidFill>
                <a:latin typeface="Verdana"/>
              </a:rPr>
              <a:t>If some MS are ready before Mid 2010 they may inform EMSA to anticipate some te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57A-788C-42D0-9C24-227019EA120B}" type="slidenum">
              <a:t>4</a:t>
            </a:fld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1:39:15Z</dcterms:created>
  <dc:creator>lopezin</dc:creator>
  <dc:description/>
  <dc:language>en-US</dc:language>
  <cp:lastModifiedBy>lemoaya</cp:lastModifiedBy>
  <cp:lastPrinted>2004-03-26T09:05:49Z</cp:lastPrinted>
  <dcterms:modified xsi:type="dcterms:W3CDTF">2009-06-09T11:19:17Z</dcterms:modified>
  <cp:revision>104</cp:revision>
  <dc:subject/>
  <dc:title>Slide 1</dc:title>
</cp:coreProperties>
</file>